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0FA4-8C50-46A1-BD9C-B3003C78D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3137-4912-4DC2-AB6C-D72B73A9B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7EF2-00B3-4FFF-AC4D-CDF28C0E6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1313-D27A-4001-8AD5-C967E10B7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FEE7-9C6A-45E5-87A8-2E7269B2B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633D-7ECF-4107-8990-16FF6F201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7CD2-ACF3-461D-90AC-7EE03A21E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B317-1ED2-4ED4-8E6E-491AD541D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9874-062F-487F-8FE9-72FF4E9DB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B83F-15CA-410F-A65A-1E6F38234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0F38-0608-4D37-856E-52FED5829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DF42-54D9-459D-A3ED-7C0EE9074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F68C-F204-4DF5-9CA2-EB8C09688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59CF-AE9B-4BE8-8238-BDD51461A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74B8-432E-42D5-892E-72C981510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EEAC-D344-460C-BACD-57D12F1E8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4E36-30D1-4C74-B260-820A802F6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: http://www.uncp.edu/academics/colleges-schools-departments/departments/biology/careers-biology/biology-sub-disci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3230-27E1-42FD-8922-AE8009A29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58AC-DC53-48F1-BF33-44F5A39E7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6285-4018-4EED-B90E-A9554DB76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F5B5-36E6-4826-B023-06DCF7F2D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F97E-18FD-44CB-B6DA-86641DD8C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0B01-2481-4BD7-9D1F-F07B72817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BD85-D1A3-43D5-8AEE-A77A0C416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A9A-6A4B-464E-AFDA-2ADE6C07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52D-F6BC-4B65-B6A6-900DC277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46A-3403-4DF1-81C2-8BEFAEFC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BFC-D055-4016-9947-FEADE321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85A-06D0-4B96-83B7-7E1725C9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050-FDBF-4634-B62E-5CB3F03A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83F-3D85-4446-B88B-1F2E052F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DFC-22C0-4CA3-A866-7094DE80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672-D918-49D4-8876-0B756DC2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4BE-ACDB-4F59-9B09-A01BDD3F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221-002B-460E-946C-28C7E0A3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86B-A276-4FDB-968E-6FBE8BC1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33D1-0947-4270-AE8F-38DCA5741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quizlet.com/6402624/biology-disciplines-flash-card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uncp.edu/academics/colleges-schools-departments/departments/biology/careers-biology/biology-sub-discipline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 Balderd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ic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ic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 in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/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 in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cer/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end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historic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endants of ichthyosa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eases of the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end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historic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endants of ichthyosa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eases of the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ymphat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s (arms, leg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&amp; their medica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rus-related fields (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m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atin for l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ymphat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s (arms, leg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&amp; their medica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rus-related fields (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m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atin for l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 &amp;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ma”, alternatively written “Nem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 &amp;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ma”, alternatively written “Nem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technology to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biological methods to the study and desig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biological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bio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prosth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achines &amp;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 &amp; cardiovascu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 &amp; cardiovascu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le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like using flashcards for review, this is a great website for creating or finding the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quizlet.com/6402624/biology-disciplines-flash-car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more comprehensiv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Biology disciplines from the University of North Carolina Pembr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technology to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plication of biological methods to the study and desig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biological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bio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prosth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achines &amp;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3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 m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s of huma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a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behaviour &amp;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e m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s of huma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a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behaviour &amp;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nds and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es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elet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lands and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es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elet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&amp; 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pidural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&amp; 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pidural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4:21:30Z</dcterms:created>
  <dc:creator>rubina khan</dc:creator>
  <dc:description/>
  <dc:language>en-US</dc:language>
  <cp:lastModifiedBy>rubina khan</cp:lastModifiedBy>
  <dcterms:modified xsi:type="dcterms:W3CDTF">2018-02-05T17:19:25Z</dcterms:modified>
  <cp:revision>433</cp:revision>
  <dc:subject/>
  <dc:title>Biology Disciplines</dc:title>
</cp:coreProperties>
</file>